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661680" y="463320"/>
            <a:ext cx="547380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CEC4-012F-4B30-9D66-513F5EA05E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C3C-F31F-4702-8C7F-4B7EA111692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6806-F358-4848-95A7-6170C4F1A34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에 대한 탈신비화와 일반적 해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록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별적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번 지진은 왕의 무슨 잘못 때문에 신이 노하여 일어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D27-23EA-40C5-8E99-91A25DF8D15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이 아닌 증명에 관심을 가졌다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적 탐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지식에 책임과 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불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개인의 몫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7149-43E4-4549-919D-EA5A753468B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밀레토스 학파의 성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과학적 질문을 던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떤 면에서 새로운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비실용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근본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의 방식도 정해져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탈신화화되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74F-4863-48B1-805B-AB0C152214F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01A-C11D-4B21-84BD-E6CF4C59B14C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대의 약점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면 물의 대립물인 불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은 물을 끓여 없애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은 불을 꺼버린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떻게 불이 물로부터 나올 수 있겠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만드로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한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형의 초기 상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페이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peir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부터 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등의 이원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ual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나오고 세계가 나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메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은 무에서 나올 수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립물인 흙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로 대립하는 두 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응축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화의 힘이 존재하므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가 다양한 밀도로 응축되어 액체와 고체가 되기도 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해져서 불이 되기도 한다고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엠페도클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로 이루어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년 동안 영향력 발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들 사이에는 사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o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싸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ife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인력과 척력 존재한다고 생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7DC-E2FB-48F8-AA0A-795E42A9E91F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923-47F2-48F0-866C-C904FF22E39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A7D-9768-47DB-81C2-28E1877CB24C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091-01C5-4073-9ACD-78E7278A50C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AA66-7BF6-4BED-85C8-2A22B5C71A84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E88E-86EF-4FB5-B95A-DF1A9FBA5EBD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366840" y="0"/>
            <a:ext cx="5848200" cy="4387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각 문명의 공통점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큰 강 옆에 있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나일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유프라테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티그리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인더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황화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고대 문명 탄생에 대한 가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자원 가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‘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환경적 제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초의 문명은 강과 가까운 곳에 위치한 계곡과 평지에서 주로 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런 지역은 고밀도 농업이 실용성을 갖거나 가능하도록 하는 환경적 범위가 제한되어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컨대 나일강 유역처럼 제한된 거주지에 사는 신석기인들은 인구가 팽참함에 따라 곧 사막과 폭포와 바다가 설정한 환경적 한계에 부딪혔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식량의 생산량을 늘리지 않을 수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쟁이 점점 일상화되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은 습격의 수준을 넘어 정복과 노예화를 포함한 형태로 발전해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거주지가 포화된 상태였으므로 패자들이 장소를 옮겨 새로운 농업 공동체를 건설하는 것이 불가능했기 때문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특히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치수관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조직적 활동 필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중앙 권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3963-548A-4CAD-B8DA-2D6142F385D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가 다섯 개인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가지는 상호 변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흙은 불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도 불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502-C873-44AA-8EC9-44E11CC71EF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63E-14A5-4FD3-B3AA-EFE039C484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0B9-3303-4243-AF36-EAFF591AAA4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EF2-9498-4394-B2EE-AFDC6D4B750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198-F8B8-4CA9-BF94-26355F9338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4A85-A097-4700-82F6-04FEA636DDD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상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도 끝도 없는 완전한 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속 원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상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과 끝이 있는 유한한 직선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979-040E-4B77-AD8A-BFC16289A47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425C-7245-4B37-B970-5DF4D98C6A50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5540400"/>
            <a:ext cx="5438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무게와 위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의 본래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치 규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호수와 바다가 흙 위에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속에서 기포가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공기 중의 불이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우주의 중심에 지구가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구가 구형인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동설 논박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7F5-CEBE-4896-84ED-06E713C8FB02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5395680"/>
            <a:ext cx="54388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ACC-02A5-4DF1-B06A-9CBF6F102BE2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47720" y="500040"/>
            <a:ext cx="5086440" cy="3816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래 신석기 시대와 구석기 시대를 살던 사람들은 전쟁에서 패배한 뒤에 일반적으로 새로운 곳으로 옮겨갈 수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나일강 유역처럼 환경적으로 제한된 지역의 농부들은 달리 갈 곳이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승자들은 땅과 관개시설을 점령했을 뿐 아니라 패배한 집단을 정복하고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밀도 농업 시스템을 유지하는 데에 패자들을 노예와 농노로 부렸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과정이 일단 시작되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합과 집중을 유도하는 역사적인 흐름을 되돌릴 수 없게 되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신석기 사회는 점점 더 계급화되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급 구조의 정점에 오른 소수 특권층이 하층 농민들을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광역적인 권력이 국지적인 권력을 포괄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최소한 신석기 시대의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50%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이상 잉여 곡물 증가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6720-9B53-4BF0-B03F-B3BDCE6059DD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씨앗의 잠재력이 실현되는 과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위치의 변화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물질의 본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본래 위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 실현되는 과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정지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운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스러운 운동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연스러운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물 자체의 속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의 발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천체의 원운동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돌의 수직낙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불의 수직상승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별도의 외적 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력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필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수레의 운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돛단배의 운동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(cf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던져진 투창은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BB25-7EF1-4CBB-86FF-90F92B299A1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문제를 잘 체계적으로 설명한다고 생각하면 오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.g.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사체의 운동 잘 설명 못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799-D5A4-473E-B4E1-6666042F722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06400" y="500040"/>
            <a:ext cx="5184720" cy="3887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무엇을 알 수 있을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문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고도의 종교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신화적 이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의식 절차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조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세공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미라제작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문학적 지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계급 지배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리 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중앙집권적 권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동원능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자의 쿠푸 피라미드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원전 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2789-2767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인류 역사상 가장 큰 석조 건축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부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㎦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48m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평균 무게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.5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톤에 달하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3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개의 돌로 구성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당한 수준의 수학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공학적 지식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정확한 방향 설정을 위해서도 전문적 기술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일차적으로는 엄청난 노동력의 산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약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의 기술자가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동원되어 완성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비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기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경 중국 대운하 건설에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55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38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투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축 이유에 대한 재밌는 학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 자체로 국가의 기술을 훈련하기 위한 활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초기 피라미드들은 농한기에 군중을 동원하여 국가가 존재한다는 생각을 강화하기 위해 벌인 거대 건축사업의 결과물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하나 이상의 피라미드가 동시에 건축된 이유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점차 노동력이 남아돌았기 때문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러므로 기념비적 건축은 초기 이집트 국가의 제도적인 근육운동이라 할 수 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마치 오늘날의 무기 산업처럼 말이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설은 상징적으로뿐 아니라 그 자체로도 국가 건설이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8B6B-1073-48FD-882A-986189442A68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533520" y="0"/>
            <a:ext cx="5657760" cy="4243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추상화 능력 반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구전과 인간의 기억력 대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인 필요에서 가장 중요한 기술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체계 하에서 언어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수량적 정보 기록할 필요 절실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경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투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행정 관련 기록 보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장부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대부분 경제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 목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scribe)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은 사회적 지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 또는 전문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보장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최초의 학교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글과 수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후에는 신화와 전설 가르침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에두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판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정부 관료 또는 회계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점성가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천문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수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의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기술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교사 등의 전문가가 될 수 있었음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본적으로는 표의문자의 성격을 띠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표음문자적인 요소도 함께 가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집트 상형문자는 공식적으로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개가 확인되었지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파라오에게 소속된 조각가와 필기사들은 수천 년 동안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700-8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개의 문자만 사용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순전히 소리값만 가진 알파벳 기호는 좀더 나중에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차 문명에서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기원전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1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이후에 페니키아인과 함께 등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바빌로니아 숫자 체계에서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 없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리로만 판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B824-3422-49F0-BE23-EACDD903BEB5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30120" y="0"/>
            <a:ext cx="5850000" cy="43876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용적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록 보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치적 행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경제적 교역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확한 달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축과 토목 사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업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약품과 치료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적 예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익명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식은 국가기관에 소속된 전문가들의 몫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인적인 발견보다는 사회 유지에 기여하는 것에 관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150-060D-4B0A-B302-4588CE9A82E9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철학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의 발명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식 자체를 위한 지식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원초문명의 실용적 지식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에 대한 탈신비화와 객관화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신화적 우주론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보편적 현상에 대한 일반적 해명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목록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익명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문을 위한 제도적 기관 無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공적 지원 無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파들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인 모임이나 동아리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인의 지적 재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책임과 명예는 모두 개인의 몫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합리적인 비판과 논쟁의 전통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용적 욕심 없는 자연에 대한 추상적인 사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생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기술 활동과 동떨어진 놀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유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성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절대 권위 없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적인 논쟁도 권위에 호소하지 않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밀레토스 학파의 철학자들은 타인의 생각에 동의하지 않았으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성과 논리와 관찰을 통해 타인의 생각을 공격하고 자신의 주장을 뒷받침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최근의 연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집트 문화가 에게 해 주변의 헬레나 문화 발전에 영향을 미치긴 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헬레나 세계의 내부에서도 다양한 마술과 민간 전승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점성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종교적 신비주의 등이 민중 속에서 여전히 유행했다는 사실은 이들과 과학지식이 경쟁했음을 시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B3F5-58F9-44F4-B71E-20536ECC235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35B-2979-496F-ADB5-856FF9943780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관심하다는 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별만 바라보고 걷던 나머지 우물에 빠졌다는 탈레스의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러 들어갔다는 해석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원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8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의 일식 예측하여 전쟁 종식시켰다는 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심한 탈레스의 대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도 원한다면 나의 지혜를 이용하여 돈을 벌 수 있음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에 관한 재미있는 많은 일화는 다른 위인들이 경우처럼 사실이 아닐지도 모르지만 적어도 그럴싸한 얘기들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는 얼마나 쉽게 부자가 될 수 있는가를 보여준 적이 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올리브 대풍작을 예견한 그는 그 지역의 모든 착유기에 대한 전매권을 얻은 다음 나중에 착유기를 빌려주어 많은 돈을 벌어들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말을 잘 안듣는 노새에 관한 일화가 있는데 이 노새는 소금을 운반할때 냇물에 이르면 그 냇물에 뒹굴어 소금을 물에 녹게 한 다음 보다 가볍게 운반하곤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탈레스는 한번은 이 노새에게 스펀지를 운반하게 해서 골치아픈 노새의 습관을 없애버렸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96E-44C3-4603-9001-08F14FF1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81F-AE2C-4AB8-80AA-1AC20B4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FA2-2043-4FB8-A0AE-8B307A9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1AA-165A-44B6-8DCB-6B7FCA99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9798-4FFF-4AA6-BEC4-FF1C2282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4574-4119-471E-8C63-E4667FA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4639-0CAE-4807-B034-A7109A2A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55A7-92F1-42B9-A191-E2E7290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1921-18D6-4FBC-8259-BF593334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DDF3-A4D5-4B4F-A670-E5BD8CD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85F9-7F32-4393-B74A-4A1EBA5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49E-4084-43A1-A862-1D1F963C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EE0D-F775-414B-A91C-F32794E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423-E30A-4CE7-92BF-592F6CC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EAB4-45E1-4A26-8C3C-7BC9FF98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348-20B3-4CFD-8CF4-15AB2C4C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278E-C8CB-4B14-893B-F35FB50E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1ED54-0715-4D80-A34A-FDA3AC02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AA17F-3AE8-4F9E-85D7-91027145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2E4A2-9F6F-4AE8-A043-74DA9F94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E4F54-B9C8-4D90-8405-21238261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4B677-F93C-438A-B6AE-298A5BC2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2E5-023E-48D0-B3BF-31D7ECD4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E1FA4-4653-4749-8133-2DC65B0D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BB7A8-0441-431B-9959-B5DEBB2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9DC4D-37D3-4A78-A86D-9EE0807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B3559-B78B-49DF-BD43-68AD1458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D2A94-A824-49E6-AC4D-9DBE819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F357A-24B0-4B25-A3FA-6E54D9DB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DFA24-262F-4C99-8EB9-04F5E211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07DE-52EC-4801-B69F-BAA404CD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A8F3A-1F0E-48E3-910F-C47F5238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B71E-1794-4C2F-9EA7-A0D44103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018-ED32-4996-81AA-0CAA4A9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1C36-D6EF-446E-AFF4-285ECF0B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E7D8-69BF-464F-9AB7-14ABA143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B2A3-56DD-413A-914C-4302100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783E-07CF-4742-AEE6-B14B448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EDBF-2298-4BB7-AA2F-F3E94EA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4393-0A98-4A31-B5C2-D4A8289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3C9B-0D30-4A5D-B984-ED503CE8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5BD2-06A8-4567-B766-E7D7E64A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279D-362A-4E0C-9845-96F22889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35C9-6871-4C58-B49E-F3D9F980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305-5EC2-47B6-938F-8BBC4E54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9DDE-B0B5-4A06-BDFD-FEDE246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414F-D09E-4FCC-A73C-B16ED02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ACB6-B9BC-411C-A564-F18D7AE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7FA0-78D7-402D-96FE-08894E2F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D15DE-9319-4662-83FC-C3579D1C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0968-E196-475B-8123-B5685DD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B382A-8C84-4E0B-BCA2-35A83CB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5C94-EC60-4141-8DE5-64B3C9D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2E35-E048-4F3B-8EC8-04601F5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61219-BCAA-4728-887B-1438583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40F-32E5-4DDC-918C-A4684C2E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C430-D53E-4B10-871F-F00F1ADC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2CCA-C481-445C-90A2-A286CE96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A59E-7E79-4B59-953B-352FDC2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C74F-8E07-4C49-9AD7-2A27695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C20D2-4E7F-45BD-8A85-7A4AE512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6CA7-5B0B-4A92-9006-3CCB3A22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8BA91-3449-446D-8F18-426AC17C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AE4B-7148-45CE-B3D5-80AB2C6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7B3A5-6EFB-4C08-AE33-63F0AA1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8FEE-2F5E-49B3-A41C-0C74B5D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D29-1B0C-42FC-A0A1-597D26B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30DB6-CD05-454C-AE43-7DE8C7C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C082-CCD7-4802-AC50-157671B3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4C40-AF1B-4105-B4E2-E50E8212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2E3-5EBC-449F-8402-BC8E8B7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7AD-4E70-4326-B7C6-47A85BFD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DDC-3CC5-49EE-9B83-CE6431252FBF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654-FAC9-4DFB-8A95-5D5F61D5E07D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954-EF52-4166-A6F7-C8299AB43448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AA1-379D-483E-A4C4-33683CDB7189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F88-4765-4FD4-B831-199820B4EC0E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25E-D328-4D6A-9CE0-C71A9A4CCDBD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Trebuchet MS"/>
              </a:rPr>
              <a:t>과학의 시작은 고대 그리스에서</a:t>
            </a:r>
            <a:endParaRPr b="0" lang="en-US" sz="44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과학기술의 융합적 이해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2013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12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식 자체를 위한 지식 탐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별만 바라보고 걷던 나머지 우물에 빠졌다는 일화의 주인공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자연에 대한 탈신비화된 설명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구는 물 위에 나무토막이나 배처럼 떠 있으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br>
              <a:rPr sz="2100"/>
            </a:b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진은 물의 움직임 때문에 발생한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의 정리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2160" y="4797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개인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에 의해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증명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된 명제의 탄생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8" name="Picture 4" descr="Thales-theorem"/>
          <p:cNvPicPr/>
          <p:nvPr/>
        </p:nvPicPr>
        <p:blipFill>
          <a:blip r:embed="rId1"/>
          <a:stretch/>
        </p:blipFill>
        <p:spPr>
          <a:xfrm>
            <a:off x="2771640" y="692280"/>
            <a:ext cx="36133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새로운 과학적 질문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는 무엇으로 이루어졌는가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질의 기초에 대한 논쟁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탈레스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만드로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무한자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apeiron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메네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pneuma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엠페도클레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네 뿌리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합리적 비판과 논쟁 </a:t>
            </a:r>
            <a:r>
              <a:rPr b="0" lang="en-US" sz="21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밀레토스 학파 형성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C.f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피타고라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수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데모크리토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자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우주 체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61038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고대의 신화적 우주론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5" name="Picture 5" descr="%EC%95%84%EB%82%99%EC%8B%9C%EB%A7%8C%EB%93%9C%EB%A1%9C%EC%8A%A4%EC%9D%98_%EC%9A%B0%EC%A3%BC_%EC%B2%B4%EA%B3%84"/>
          <p:cNvPicPr/>
          <p:nvPr/>
        </p:nvPicPr>
        <p:blipFill>
          <a:blip r:embed="rId1"/>
          <a:stretch/>
        </p:blipFill>
        <p:spPr>
          <a:xfrm>
            <a:off x="1692360" y="907920"/>
            <a:ext cx="60418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c000"/>
                </a:solidFill>
                <a:latin typeface="Trebuchet MS"/>
              </a:rPr>
              <a:t>그리스 </a:t>
            </a:r>
            <a:r>
              <a:rPr b="1" lang="en-US" sz="4300" spc="-1" strike="noStrike">
                <a:solidFill>
                  <a:srgbClr val="ffc000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c000"/>
                </a:solidFill>
                <a:latin typeface="Trebuchet MS"/>
              </a:rPr>
              <a:t>자연철학</a:t>
            </a:r>
            <a:r>
              <a:rPr b="1" lang="en-US" sz="4300" spc="-1" strike="noStrike">
                <a:solidFill>
                  <a:srgbClr val="ffc000"/>
                </a:solidFill>
                <a:latin typeface="Trebuchet MS"/>
              </a:rPr>
              <a:t>’</a:t>
            </a:r>
            <a:r>
              <a:rPr b="1" lang="ko-KR" sz="4300" spc="-1" strike="noStrike">
                <a:solidFill>
                  <a:srgbClr val="ffc000"/>
                </a:solidFill>
                <a:latin typeface="Trebuchet MS"/>
              </a:rPr>
              <a:t>의 발명지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식 자체를 위한 지식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실용적 지식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자연에 대한 탈신비화와 객관화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신화적 우주론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보편적 현상에 대한 일반적 해명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사적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–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합리적 비판과 논쟁의 전통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athenslarge"/>
          <p:cNvPicPr/>
          <p:nvPr/>
        </p:nvPicPr>
        <p:blipFill>
          <a:blip r:embed="rId1"/>
          <a:stretch/>
        </p:blipFill>
        <p:spPr>
          <a:xfrm>
            <a:off x="-1260360" y="-54000"/>
            <a:ext cx="10585440" cy="70945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481800" cy="1362240"/>
          </a:xfrm>
          <a:prstGeom prst="rect">
            <a:avLst/>
          </a:prstGeom>
          <a:solidFill>
            <a:srgbClr val="424456">
              <a:alpha val="6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과 아리스토텔레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(Plato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428-327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2160" y="501336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의 愛 제자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 사후 이탈리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/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이집트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여행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테네로 돌아온 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Academeia)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설립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rebuchet MS"/>
              </a:rPr>
              <a:t>현실세계는 이데아의 불완전한 복제품</a:t>
            </a:r>
            <a:endParaRPr b="0" lang="en-US" sz="35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2160" y="191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목수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의자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=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조물주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세계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현실세계는 조물주의 합리적 설계의 산물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755640" y="3933720"/>
          <a:ext cx="7667640" cy="1224000"/>
        </p:xfrm>
        <a:graphic>
          <a:graphicData uri="http://schemas.openxmlformats.org/drawingml/2006/table">
            <a:tbl>
              <a:tblPr/>
              <a:tblGrid>
                <a:gridCol w="1533600"/>
                <a:gridCol w="1562040"/>
                <a:gridCol w="1873080"/>
                <a:gridCol w="1868760"/>
                <a:gridCol w="830160"/>
              </a:tblGrid>
              <a:tr h="61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이데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611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현실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모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복제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∵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질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그림 2주 최초의 문명들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3132000" y="5375160"/>
            <a:ext cx="2880000" cy="581400"/>
          </a:xfrm>
          <a:prstGeom prst="rect">
            <a:avLst/>
          </a:prstGeom>
          <a:solidFill>
            <a:srgbClr val="5c9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최초의 문명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을 모르는 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들어오지 말라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 정문 위의 경구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(5)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론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01" name="Picture 4" descr="platonic6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celestial sphere)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43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영원한 등속 원운동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04" name="Picture 3" descr="플라톤 천구"/>
          <p:cNvPicPr/>
          <p:nvPr/>
        </p:nvPicPr>
        <p:blipFill>
          <a:blip r:embed="rId1"/>
          <a:stretch/>
        </p:blipFill>
        <p:spPr>
          <a:xfrm>
            <a:off x="2340000" y="836640"/>
            <a:ext cx="45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ristotle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384-322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의 愛 제자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 사후 에게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소아시아 여행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아테네로 돌아온 후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리케이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(Lykeion)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설립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2520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데아는 대상 속에 존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2160" y="49413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대상의 본질은 물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matter)+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형상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form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10" name="Picture 30" descr="dog"/>
          <p:cNvPicPr/>
          <p:nvPr/>
        </p:nvPicPr>
        <p:blipFill>
          <a:blip r:embed="rId1"/>
          <a:stretch/>
        </p:blipFill>
        <p:spPr>
          <a:xfrm>
            <a:off x="2411280" y="907920"/>
            <a:ext cx="232092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31"/>
          <p:cNvGrpSpPr/>
          <p:nvPr/>
        </p:nvGrpSpPr>
        <p:grpSpPr>
          <a:xfrm>
            <a:off x="3432960" y="1918440"/>
            <a:ext cx="4361040" cy="1985760"/>
            <a:chOff x="3432960" y="1918440"/>
            <a:chExt cx="4361040" cy="1985760"/>
          </a:xfrm>
        </p:grpSpPr>
        <p:sp>
          <p:nvSpPr>
            <p:cNvPr id="412" name="Line 32"/>
            <p:cNvSpPr/>
            <p:nvPr/>
          </p:nvSpPr>
          <p:spPr>
            <a:xfrm flipH="1">
              <a:off x="4798440" y="2134440"/>
              <a:ext cx="758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Text Box 33"/>
            <p:cNvSpPr/>
            <p:nvPr/>
          </p:nvSpPr>
          <p:spPr>
            <a:xfrm>
              <a:off x="5653440" y="1918440"/>
              <a:ext cx="214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이데아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idea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Text Box 34"/>
            <p:cNvSpPr/>
            <p:nvPr/>
          </p:nvSpPr>
          <p:spPr>
            <a:xfrm>
              <a:off x="3432960" y="3139920"/>
              <a:ext cx="312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플라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이데아의 불완전한 복제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415" name="Group 35"/>
          <p:cNvGrpSpPr/>
          <p:nvPr/>
        </p:nvGrpSpPr>
        <p:grpSpPr>
          <a:xfrm>
            <a:off x="3103200" y="1341360"/>
            <a:ext cx="4437000" cy="2460600"/>
            <a:chOff x="3103200" y="1341360"/>
            <a:chExt cx="4437000" cy="2460600"/>
          </a:xfrm>
        </p:grpSpPr>
        <p:sp>
          <p:nvSpPr>
            <p:cNvPr id="416" name="Line 36"/>
            <p:cNvSpPr/>
            <p:nvPr/>
          </p:nvSpPr>
          <p:spPr>
            <a:xfrm flipV="1">
              <a:off x="4709160" y="1533960"/>
              <a:ext cx="974160" cy="67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Line 37"/>
            <p:cNvSpPr/>
            <p:nvPr/>
          </p:nvSpPr>
          <p:spPr>
            <a:xfrm>
              <a:off x="4709160" y="2216880"/>
              <a:ext cx="97416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Text Box 38"/>
            <p:cNvSpPr/>
            <p:nvPr/>
          </p:nvSpPr>
          <p:spPr>
            <a:xfrm>
              <a:off x="5653440" y="1341360"/>
              <a:ext cx="188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형상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form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Text Box 39"/>
            <p:cNvSpPr/>
            <p:nvPr/>
          </p:nvSpPr>
          <p:spPr>
            <a:xfrm>
              <a:off x="5686920" y="2630520"/>
              <a:ext cx="164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물질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matter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Text Box 40"/>
            <p:cNvSpPr/>
            <p:nvPr/>
          </p:nvSpPr>
          <p:spPr>
            <a:xfrm>
              <a:off x="3103200" y="3037680"/>
              <a:ext cx="27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아리스토텔레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형상과 물질을 가짐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2133720"/>
          <a:ext cx="8129520" cy="3240000"/>
        </p:xfrm>
        <a:graphic>
          <a:graphicData uri="http://schemas.openxmlformats.org/drawingml/2006/table">
            <a:tbl>
              <a:tblPr/>
              <a:tblGrid>
                <a:gridCol w="1079640"/>
                <a:gridCol w="3620880"/>
                <a:gridCol w="3429000"/>
              </a:tblGrid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플라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아리스토텔레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데아의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현실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신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&lt;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관념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방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수학적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추상적 추론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 → 분류 → 질서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상계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vs.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상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pic>
        <p:nvPicPr>
          <p:cNvPr id="424" name="Picture 4" descr="Scan0037"/>
          <p:cNvPicPr/>
          <p:nvPr/>
        </p:nvPicPr>
        <p:blipFill>
          <a:blip r:embed="rId1"/>
          <a:srcRect l="3014" t="0" r="1567" b="0"/>
          <a:stretch/>
        </p:blipFill>
        <p:spPr>
          <a:xfrm>
            <a:off x="1763640" y="836640"/>
            <a:ext cx="5894640" cy="489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1187280" y="1268280"/>
          <a:ext cx="6747120" cy="4564080"/>
        </p:xfrm>
        <a:graphic>
          <a:graphicData uri="http://schemas.openxmlformats.org/drawingml/2006/table">
            <a:tbl>
              <a:tblPr/>
              <a:tblGrid>
                <a:gridCol w="1449720"/>
                <a:gridCol w="2617560"/>
                <a:gridCol w="26798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천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지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06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위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아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6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특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 無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0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질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제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5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에테르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4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흙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공기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7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상하운동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+alph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무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~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제자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29" name="Picture 3" descr="Scan0037"/>
          <p:cNvPicPr/>
          <p:nvPr/>
        </p:nvPicPr>
        <p:blipFill>
          <a:blip r:embed="rId1"/>
          <a:srcRect l="18328" t="21372" r="35208" b="21828"/>
          <a:stretch/>
        </p:blipFill>
        <p:spPr>
          <a:xfrm>
            <a:off x="1763640" y="476280"/>
            <a:ext cx="5472360" cy="53053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4716360" y="3213000"/>
            <a:ext cx="334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=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온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냉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습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조합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소와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성질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3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도시혁명과 관료국가의 형성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84360" y="1844640"/>
            <a:ext cx="2808000" cy="100800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인구증가로 인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용력의 한계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4360" y="3357720"/>
            <a:ext cx="2808000" cy="151128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밀도 농업의 등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제노동에 의한 경작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 물 관리 시스템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5445000"/>
            <a:ext cx="2808000" cy="10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더 많은 잉여의 창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050920" y="2924280"/>
            <a:ext cx="180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052720" y="5013360"/>
            <a:ext cx="1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924360" y="3357720"/>
            <a:ext cx="2376360" cy="151128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잡한 기술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노동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관리 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924360" y="5229360"/>
            <a:ext cx="2376360" cy="129672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공출 저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재분배를 위한 복잡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정치경제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3565440" y="587700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565440" y="407664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804000" y="3357720"/>
            <a:ext cx="1943280" cy="3166920"/>
          </a:xfrm>
          <a:prstGeom prst="rect">
            <a:avLst/>
          </a:prstGeom>
          <a:solidFill>
            <a:srgbClr val="438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중앙집중적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료국가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형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6443640" y="407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6443640" y="580536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운동≒변화</a:t>
            </a:r>
            <a:br>
              <a:rPr sz="44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잠재적인 것이 현실화되는 과정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55640" y="4005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그러나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본성이 실현되지 못하는 운동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강제된 운동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 체계의 통일성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2160" y="198900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이론과 경험의 통일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상식적이면서 탁월한 설명력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고도로 일관되면서 동시에 매우 포괄적인 이론 체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22076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25424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AutoShape 6"/>
          <p:cNvSpPr/>
          <p:nvPr/>
        </p:nvSpPr>
        <p:spPr>
          <a:xfrm>
            <a:off x="127008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127008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947960" y="3301920"/>
            <a:ext cx="628560" cy="540000"/>
            <a:chOff x="1947960" y="3301920"/>
            <a:chExt cx="628560" cy="540000"/>
          </a:xfrm>
        </p:grpSpPr>
        <p:sp>
          <p:nvSpPr>
            <p:cNvPr id="444" name="Oval 9"/>
            <p:cNvSpPr/>
            <p:nvPr/>
          </p:nvSpPr>
          <p:spPr>
            <a:xfrm>
              <a:off x="1947960" y="3315600"/>
              <a:ext cx="628560" cy="52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Oval 10"/>
            <p:cNvSpPr/>
            <p:nvPr/>
          </p:nvSpPr>
          <p:spPr>
            <a:xfrm>
              <a:off x="195444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Oval 11"/>
            <p:cNvSpPr/>
            <p:nvPr/>
          </p:nvSpPr>
          <p:spPr>
            <a:xfrm>
              <a:off x="1962000" y="3304800"/>
              <a:ext cx="593640" cy="527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Oval 12"/>
            <p:cNvSpPr/>
            <p:nvPr/>
          </p:nvSpPr>
          <p:spPr>
            <a:xfrm>
              <a:off x="1968480" y="3310200"/>
              <a:ext cx="565200" cy="492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Oval 13"/>
            <p:cNvSpPr/>
            <p:nvPr/>
          </p:nvSpPr>
          <p:spPr>
            <a:xfrm>
              <a:off x="2001240" y="3324240"/>
              <a:ext cx="501480" cy="3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49" name="Text Box 14"/>
          <p:cNvSpPr/>
          <p:nvPr/>
        </p:nvSpPr>
        <p:spPr>
          <a:xfrm>
            <a:off x="207936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1295280" y="3959280"/>
            <a:ext cx="20113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주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353052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66af35"/>
              </a:gs>
              <a:gs pos="100000">
                <a:srgbClr val="588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AutoShape 17"/>
          <p:cNvSpPr/>
          <p:nvPr/>
        </p:nvSpPr>
        <p:spPr>
          <a:xfrm>
            <a:off x="3564000" y="3573360"/>
            <a:ext cx="2049480" cy="2430720"/>
          </a:xfrm>
          <a:custGeom>
            <a:avLst/>
            <a:gdLst>
              <a:gd name="textAreaLeft" fmla="*/ 99720 w 2049480"/>
              <a:gd name="textAreaRight" fmla="*/ 1949760 w 2049480"/>
              <a:gd name="textAreaTop" fmla="*/ 99720 h 2430720"/>
              <a:gd name="textAreaBottom" fmla="*/ 2331000 h 2430720"/>
            </a:gdLst>
            <a:ahLst/>
            <a:rect l="textAreaLeft" t="textAreaTop" r="textAreaRight" b="textAreaBottom"/>
            <a:pathLst>
              <a:path w="21600" h="25617">
                <a:moveTo>
                  <a:pt x="3600" y="0"/>
                </a:moveTo>
                <a:arcTo wR="3600" hR="3600" stAng="16200000" swAng="-5400000"/>
                <a:lnTo>
                  <a:pt x="0" y="22017"/>
                </a:lnTo>
                <a:arcTo wR="3600" hR="3600" stAng="10800000" swAng="-5400000"/>
                <a:lnTo>
                  <a:pt x="18000" y="25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357984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d844"/>
              </a:gs>
              <a:gs pos="100000">
                <a:srgbClr val="c7ea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4" name="AutoShape 19"/>
          <p:cNvSpPr/>
          <p:nvPr/>
        </p:nvSpPr>
        <p:spPr>
          <a:xfrm>
            <a:off x="357984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f2c1"/>
              </a:gs>
              <a:gs pos="100000">
                <a:srgbClr val="99d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5" name="Oval 20"/>
          <p:cNvSpPr/>
          <p:nvPr/>
        </p:nvSpPr>
        <p:spPr>
          <a:xfrm>
            <a:off x="4257720" y="3317760"/>
            <a:ext cx="628560" cy="519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Oval 21"/>
          <p:cNvSpPr/>
          <p:nvPr/>
        </p:nvSpPr>
        <p:spPr>
          <a:xfrm>
            <a:off x="4264200" y="3303720"/>
            <a:ext cx="607680" cy="5396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7" name="Oval 22"/>
          <p:cNvSpPr/>
          <p:nvPr/>
        </p:nvSpPr>
        <p:spPr>
          <a:xfrm>
            <a:off x="4272120" y="3305160"/>
            <a:ext cx="593640" cy="5284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8" name="Oval 23"/>
          <p:cNvSpPr/>
          <p:nvPr/>
        </p:nvSpPr>
        <p:spPr>
          <a:xfrm>
            <a:off x="4278240" y="3311640"/>
            <a:ext cx="565200" cy="4903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9" name="Oval 24"/>
          <p:cNvSpPr/>
          <p:nvPr/>
        </p:nvSpPr>
        <p:spPr>
          <a:xfrm>
            <a:off x="4313160" y="3324240"/>
            <a:ext cx="500040" cy="39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438912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1" name="Text Box 26"/>
          <p:cNvSpPr/>
          <p:nvPr/>
        </p:nvSpPr>
        <p:spPr>
          <a:xfrm>
            <a:off x="3605040" y="3959280"/>
            <a:ext cx="20098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질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2" name="AutoShape 27"/>
          <p:cNvSpPr/>
          <p:nvPr/>
        </p:nvSpPr>
        <p:spPr>
          <a:xfrm>
            <a:off x="584028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c16237"/>
              </a:gs>
              <a:gs pos="100000">
                <a:srgbClr val="ab4e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AutoShape 28"/>
          <p:cNvSpPr/>
          <p:nvPr/>
        </p:nvSpPr>
        <p:spPr>
          <a:xfrm>
            <a:off x="587232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4" name="AutoShape 29"/>
          <p:cNvSpPr/>
          <p:nvPr/>
        </p:nvSpPr>
        <p:spPr>
          <a:xfrm>
            <a:off x="588960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8b65"/>
              </a:gs>
              <a:gs pos="100000">
                <a:srgbClr val="f2bc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5" name="AutoShape 30"/>
          <p:cNvSpPr/>
          <p:nvPr/>
        </p:nvSpPr>
        <p:spPr>
          <a:xfrm>
            <a:off x="588960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d8cc"/>
              </a:gs>
              <a:gs pos="100000">
                <a:srgbClr val="e98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66" name="Group 31"/>
          <p:cNvGrpSpPr/>
          <p:nvPr/>
        </p:nvGrpSpPr>
        <p:grpSpPr>
          <a:xfrm>
            <a:off x="6567480" y="3301920"/>
            <a:ext cx="628560" cy="540000"/>
            <a:chOff x="6567480" y="3301920"/>
            <a:chExt cx="628560" cy="540000"/>
          </a:xfrm>
        </p:grpSpPr>
        <p:sp>
          <p:nvSpPr>
            <p:cNvPr id="467" name="Oval 32"/>
            <p:cNvSpPr/>
            <p:nvPr/>
          </p:nvSpPr>
          <p:spPr>
            <a:xfrm>
              <a:off x="6567480" y="3315600"/>
              <a:ext cx="628560" cy="52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Oval 33"/>
            <p:cNvSpPr/>
            <p:nvPr/>
          </p:nvSpPr>
          <p:spPr>
            <a:xfrm>
              <a:off x="657396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Oval 34"/>
            <p:cNvSpPr/>
            <p:nvPr/>
          </p:nvSpPr>
          <p:spPr>
            <a:xfrm>
              <a:off x="6581520" y="3304800"/>
              <a:ext cx="593640" cy="527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Oval 35"/>
            <p:cNvSpPr/>
            <p:nvPr/>
          </p:nvSpPr>
          <p:spPr>
            <a:xfrm>
              <a:off x="6588000" y="3310200"/>
              <a:ext cx="565200" cy="492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Oval 36"/>
            <p:cNvSpPr/>
            <p:nvPr/>
          </p:nvSpPr>
          <p:spPr>
            <a:xfrm>
              <a:off x="6620760" y="3324240"/>
              <a:ext cx="501480" cy="3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2" name="Text Box 37"/>
          <p:cNvSpPr/>
          <p:nvPr/>
        </p:nvSpPr>
        <p:spPr>
          <a:xfrm>
            <a:off x="669744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3" name="Text Box 38"/>
          <p:cNvSpPr/>
          <p:nvPr/>
        </p:nvSpPr>
        <p:spPr>
          <a:xfrm>
            <a:off x="5915160" y="395928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연스런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제된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4" name="AutoShape 39"/>
          <p:cNvSpPr/>
          <p:nvPr/>
        </p:nvSpPr>
        <p:spPr>
          <a:xfrm>
            <a:off x="3021120" y="3946680"/>
            <a:ext cx="863640" cy="576000"/>
          </a:xfrm>
          <a:prstGeom prst="leftRightArrow">
            <a:avLst>
              <a:gd name="adj1" fmla="val 50000"/>
              <a:gd name="adj2" fmla="val 2984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5" name="AutoShape 40"/>
          <p:cNvSpPr/>
          <p:nvPr/>
        </p:nvSpPr>
        <p:spPr>
          <a:xfrm>
            <a:off x="5324400" y="401940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48" name="Picture 4" descr="07Ziggurat"/>
          <p:cNvPicPr/>
          <p:nvPr/>
        </p:nvPicPr>
        <p:blipFill>
          <a:blip r:embed="rId1"/>
          <a:stretch/>
        </p:blipFill>
        <p:spPr>
          <a:xfrm>
            <a:off x="0" y="476280"/>
            <a:ext cx="4284720" cy="2952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teotihuacan"/>
          <p:cNvPicPr/>
          <p:nvPr/>
        </p:nvPicPr>
        <p:blipFill>
          <a:blip r:embed="rId2"/>
          <a:stretch/>
        </p:blipFill>
        <p:spPr>
          <a:xfrm>
            <a:off x="4284720" y="3429000"/>
            <a:ext cx="4995720" cy="3500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reat%20Sphinx,%20Chephren%20Pyramid,%20Giza,%20Egypt"/>
          <p:cNvPicPr/>
          <p:nvPr/>
        </p:nvPicPr>
        <p:blipFill>
          <a:blip r:embed="rId3"/>
          <a:stretch/>
        </p:blipFill>
        <p:spPr>
          <a:xfrm>
            <a:off x="-635040" y="3429000"/>
            <a:ext cx="4919760" cy="342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Figura%2006%20Ziggurat02%20Ur%20color"/>
          <p:cNvPicPr/>
          <p:nvPr/>
        </p:nvPicPr>
        <p:blipFill>
          <a:blip r:embed="rId4"/>
          <a:stretch/>
        </p:blipFill>
        <p:spPr>
          <a:xfrm>
            <a:off x="4284720" y="547560"/>
            <a:ext cx="5329080" cy="2881440"/>
          </a:xfrm>
          <a:prstGeom prst="rect">
            <a:avLst/>
          </a:prstGeom>
          <a:ln w="0">
            <a:noFill/>
          </a:ln>
        </p:spPr>
      </p:pic>
      <p:sp>
        <p:nvSpPr>
          <p:cNvPr id="352" name="직사각형 1"/>
          <p:cNvSpPr/>
          <p:nvPr/>
        </p:nvSpPr>
        <p:spPr>
          <a:xfrm>
            <a:off x="1835280" y="5516640"/>
            <a:ext cx="5545080" cy="792000"/>
          </a:xfrm>
          <a:prstGeom prst="rect">
            <a:avLst/>
          </a:prstGeom>
          <a:solidFill>
            <a:srgbClr val="53548a">
              <a:alpha val="83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고도의 종교적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신화적 이론과 고도의 지식과 기술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고도의 통치 관리 기술 없이는 문명 지탱 불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그림 2주 상형문자"/>
          <p:cNvPicPr/>
          <p:nvPr/>
        </p:nvPicPr>
        <p:blipFill>
          <a:blip r:embed="rId1"/>
          <a:srcRect l="9745" t="3015" r="54375" b="61625"/>
          <a:stretch/>
        </p:blipFill>
        <p:spPr>
          <a:xfrm>
            <a:off x="539640" y="1517760"/>
            <a:ext cx="3062520" cy="2073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3876840" y="1517760"/>
            <a:ext cx="3693960" cy="2073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http://www.postech.ac.kr/press/hs/collectedata/990304191151Moscow_papyrus.jpeg"/>
          <p:cNvPicPr/>
          <p:nvPr/>
        </p:nvPicPr>
        <p:blipFill>
          <a:blip r:embed="rId3"/>
          <a:stretch/>
        </p:blipFill>
        <p:spPr>
          <a:xfrm>
            <a:off x="539640" y="3770280"/>
            <a:ext cx="3062520" cy="26114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1348920"/>
            <a:ext cx="735012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7" name="Picture 4" descr="스톤헨지 일출"/>
          <p:cNvPicPr/>
          <p:nvPr/>
        </p:nvPicPr>
        <p:blipFill>
          <a:blip r:embed="rId4"/>
          <a:srcRect l="0" t="0" r="0" b="7714"/>
          <a:stretch/>
        </p:blipFill>
        <p:spPr>
          <a:xfrm>
            <a:off x="3876840" y="3760920"/>
            <a:ext cx="3693960" cy="2620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nut_geb"/>
          <p:cNvPicPr/>
          <p:nvPr/>
        </p:nvPicPr>
        <p:blipFill>
          <a:blip r:embed="rId5"/>
          <a:stretch/>
        </p:blipFill>
        <p:spPr>
          <a:xfrm>
            <a:off x="539640" y="1517760"/>
            <a:ext cx="7031160" cy="5273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1439640" y="83664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대 문명을 지탱하는 데 필요했던 지식과 기술은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 문명 지식의 특징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실용적 필요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신화적 설명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platomosaic"/>
          <p:cNvPicPr/>
          <p:nvPr/>
        </p:nvPicPr>
        <p:blipFill>
          <a:blip r:embed="rId1"/>
          <a:stretch/>
        </p:blipFill>
        <p:spPr>
          <a:xfrm>
            <a:off x="0" y="-2522520"/>
            <a:ext cx="9144000" cy="115012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18920" y="5495760"/>
            <a:ext cx="5761080" cy="1362240"/>
          </a:xfrm>
          <a:prstGeom prst="rect">
            <a:avLst/>
          </a:prstGeom>
          <a:solidFill>
            <a:srgbClr val="424456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헬레나 시대의 그리스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Hellenic era, 600-300 B.C.)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66" name="Picture 6" descr="그리스 지도"/>
          <p:cNvPicPr/>
          <p:nvPr/>
        </p:nvPicPr>
        <p:blipFill>
          <a:blip r:embed="rId1"/>
          <a:stretch/>
        </p:blipFill>
        <p:spPr>
          <a:xfrm>
            <a:off x="0" y="531720"/>
            <a:ext cx="9191520" cy="5545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289080" y="836640"/>
            <a:ext cx="3851280" cy="2663640"/>
          </a:xfrm>
          <a:prstGeom prst="rect">
            <a:avLst/>
          </a:prstGeom>
          <a:solidFill>
            <a:srgbClr val="31334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척박한 생산 조건과 지형 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업적이고 외향적인 해상문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적으로 분산된 도시국가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중앙집중적인 관료국가 불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 구조에 대한 합리적 토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대적으로 비옥했던 이오니아 지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8" name="Oval 7"/>
          <p:cNvSpPr/>
          <p:nvPr/>
        </p:nvSpPr>
        <p:spPr>
          <a:xfrm>
            <a:off x="4788000" y="1989000"/>
            <a:ext cx="1365120" cy="142092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Thales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iletus, 624?-548/545?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2160" y="4508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과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자연철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1" name="Picture 5" descr="Thales"/>
          <p:cNvPicPr/>
          <p:nvPr/>
        </p:nvPicPr>
        <p:blipFill>
          <a:blip r:embed="rId1"/>
          <a:stretch/>
        </p:blipFill>
        <p:spPr>
          <a:xfrm>
            <a:off x="3564000" y="836640"/>
            <a:ext cx="1871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3:59:03Z</dcterms:created>
  <dc:creator>zolaist</dc:creator>
  <dc:description/>
  <dc:language>en-US</dc:language>
  <cp:lastModifiedBy>정동욱</cp:lastModifiedBy>
  <dcterms:modified xsi:type="dcterms:W3CDTF">2013-09-10T06:07:40Z</dcterms:modified>
  <cp:revision>146</cp:revision>
  <dc:subject/>
  <dc:title>인쇄술 혁명</dc:title>
</cp:coreProperties>
</file>